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8.jpeg" ContentType="image/jpeg"/>
  <Override PartName="/ppt/media/image53.png" ContentType="image/png"/>
  <Override PartName="/ppt/media/image54.png" ContentType="image/png"/>
  <Override PartName="/ppt/media/image43.png" ContentType="image/png"/>
  <Override PartName="/ppt/media/image47.jpeg" ContentType="image/jpeg"/>
  <Override PartName="/ppt/media/image55.png" ContentType="image/png"/>
  <Override PartName="/ppt/media/image44.png" ContentType="image/png"/>
  <Override PartName="/ppt/media/image56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A9CB4-AA1D-4562-9BB8-AD1C23E8D0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9CAB-11D2-43E9-9583-14E95B14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332718-04D8-4BAE-965F-02CD9C0B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BA0940-8D85-4E1B-A1EB-27974958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49692A-981B-42D3-BD2A-43637E31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28A513-0013-4CD2-B09B-CAF84BB2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412B93-D9DB-443F-AC88-24860AE2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189327-7119-4C64-80A7-A4BCEBBD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B54137-DFA1-4A95-8C99-AC0398BD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FB7192-13FC-4738-8BC9-07066146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914008-AD0E-4FDF-B3F2-DDC5DB90CE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24CF5-FC0E-4219-A13E-A9073AFE53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DB8DB-1813-4C5C-97B9-B87D6A35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4F99F-C579-4117-8A00-786A845D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FDBE5-1347-4FCB-878C-D730144F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CF2EF-27E4-4CA9-BAC5-2FE34574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962BA-24D0-4868-8715-54A0AD81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2FF3A-630A-46D7-9215-49F07F73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00DDA-0F6F-42F9-AF8D-8FB5B5A0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DF17D-A202-4F69-A9E7-5532CC2D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A984F-C49B-4A4E-9EDD-016D56E6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5E29B-16F1-40B9-87B6-C9B8289C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726A3-0881-47BA-9092-796514E1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6A24-617D-48A5-A6BE-855C3A7BC9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7D4EC-353A-48AA-B49D-EBE0F3404F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2B2CD9-5990-432C-B676-CCE03A61BE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E65F4E-EA2F-4A59-9094-4AAC8483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608F47-8A9E-4616-8728-8AD94B50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38CFB9-7819-449B-9FB3-B2612972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CBF5EB-23AA-4F4E-8D3D-21F2484C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66E5D6-5C34-4C7A-8EDA-DACE80CF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915608-0F69-4511-89B0-C9B26F29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1A57B8-462F-4470-A032-13DECF5F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3D0595-B853-44D8-9DC3-9A63B8D7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C849E-FEE3-4F65-B3F0-447665C5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1EF580-09FF-4019-9855-A59C5687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6BB08F-D3BF-4E9C-A087-F25B8235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5889CB-E53F-4843-9822-E1DFF125CF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D84E7-3137-4FE8-99DC-7C196079B7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18B59-E166-40C2-9CF4-56867F13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7686B-CA06-4BF8-86EE-87CC649D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5AF6D-B514-43FB-82E8-C8136143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43617-DF49-4685-B818-695918E0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B3ACA-9867-4037-A1EB-32F9450C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A2113-B7CA-455F-998D-D1A8B7DA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117C5-7347-4357-B149-D0E349F1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92B4C-07FA-4469-BAAF-ED61F3FD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046F5-ABD0-4F54-8AF4-1D90D24B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EFE1B-1BA8-4B7C-A34D-BB4BC6A1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24A2A-EB2F-4D0E-B840-BC22D05C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B8DA0-004B-426F-8E58-70116872ED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C7D08-8E6B-45AC-B69B-D7058F8D22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69FE7-E91F-42D0-9D24-88E94885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731ED-EE0F-42EF-8522-174E0DD4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5D8B5-C484-40F8-A870-EC61E727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10A62-AF33-4EB5-8125-00A4F4AF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7692B-CADB-4B98-9E5B-4C8DD6B6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465B9-EF78-4E98-BFFC-269830FE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2047A-0A1D-4AE1-8865-3268B739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8F8E8-B54C-4045-AC9F-DECD94BA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64698-10FA-4DDB-8073-F897F8CE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F73E9-DD6B-4AE8-BF40-89DCA544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23009-CDDD-4CBF-A2B1-0BFEFE96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0E8B7-398B-454A-8EA4-49FE7BACAF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48119-40D7-4276-A91F-1B71733E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920CF-2AB1-43E1-9EF2-0CD0212E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504F9-EC96-4385-97B7-60DDE198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2D2FA-FB8F-48DA-A9F3-5E2F4BD8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BA00C-99D1-4024-9083-6F05FCC1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F36C2-5750-46E5-AB61-33CC75E8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2B50A-F031-4D54-ADFF-96F5BA1B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42273-7BEC-43F9-829F-22CFEAC6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E7ECE-F97B-4711-9A12-B04C9991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464E7-3825-46CA-9C2E-80A62523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94BA2-9CE4-4653-82BF-D1529205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95539-C8B0-4959-A4D1-E1555FE1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D2F80-7DA9-45AF-8162-2720C637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C06E8-0DAB-4081-85E5-3AB7A16B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7A220-5F1C-42D2-823B-329594CB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C24E1-532C-42EF-AC97-DDE45E2D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4E10C-E92D-40D5-B711-4C51326C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C9025-5FCD-4082-B3BB-F243A465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4948B-F994-49D4-A17F-7C2CBFF5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FF608-3720-4FA6-A392-4C535345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3F461-091F-4A3C-A898-D44B1642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3EF3D-E58F-42C3-836F-EE56703E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33EE1-B5E6-4B6C-B538-23BCE3A6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D9DAC-7782-4540-812A-9DF11811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04D19-71D8-4D09-92EB-6E8E372D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FF8E1-46E3-4F60-A4D5-73655F46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BF1D8-40FB-4414-9934-EB232B63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03116-D29E-42FE-99E4-04F3FF03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D3DA1-EA45-491F-AF91-3FE3A3E1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7D6FE-128E-4C98-A81F-986CE963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83D53-407E-4095-86C7-AEE60634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44DAE-6C5A-4396-9B97-FEB14751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5C379-8C35-4C2E-BBCA-6F364BE5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92815-E8D7-4385-A0CB-4EE551D6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E70D7-60A5-41B5-8EA9-8AFCF982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3F3C1-2A9E-4FA4-A520-ACE91D69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A5C08-AA68-426B-B366-C34BDB64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BA898-C1D4-4278-B347-F444376C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A02CD-EEF4-4308-8367-F706647C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0FD6B-D7D5-4BBC-92E0-DC020CC3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CF967-7241-4B2C-A5C4-FE6AC312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B5A73-5841-4F16-924A-7F1817D7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2FC5B-B074-4E54-9B76-B5389509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48E0F-D4FD-42A1-AE69-89E9273F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6F6ED-0498-433B-949C-C6C7B5F7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31B23-A0E7-4B4F-9885-30B7D277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9E62E-147E-4F18-AD48-619487C9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B80D-485A-4F0E-BD63-F46B51E9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F81F1-EC5B-4C41-87E6-6F50CB99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AF102-0D20-4069-BABF-9805C1AF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FCCD8-B493-4E4D-9EE5-CB583D38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A8E55-3537-48B6-876F-FC280E7D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60996-E698-4A74-A10C-BB55F185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C4C6C-C7A8-47AC-BEC9-DEDFDDBE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DD494-BA32-49B8-A427-CDA86197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5ACF5-5C70-494E-BBBC-28B2F4B7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83A4B0-6CE3-4327-A20D-D6912B97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2E858-F109-49EB-9F8B-7493E4A3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58B74-0538-441C-88CD-BF004B62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421A3-5B3F-4E09-A808-8E7E1C25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A849E6-7BFD-43A2-89C6-21DEF4CC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7E179-3B29-4A59-AC01-21897EE0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2E991-4EDF-4300-81C4-B19AE6DA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822F3-AA7D-4F13-B854-2B55818F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432C3-79EE-45E3-B6EE-2C030750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586923-CA02-4DEF-9481-8821BC80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824D0-7FE6-42D7-AA40-1B93874B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38AAED-5784-4906-A329-89270525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034509-706B-4B10-9A6B-5DC4BAD5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2548F-E763-4B78-B093-11385F99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1A65A-19DF-40C6-B683-EF123C49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96CC8-1F46-4732-9150-A8C3361D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45FC6-69BD-4316-B1F0-79EF634E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3C833-DEC9-4603-BFB3-733A7E4B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C7013-7194-4D71-8536-5AF619FE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CE1313-D78F-4ADF-93FC-6D433173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9F8D36-405D-433A-BAD7-1DF0BF6B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9FB51-E11E-4DCD-88D6-56701661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46D8F-77DE-4F59-ADA7-09CF4437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78B7D1-11C4-4C8D-A019-0BEFEEE6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17AAD8-7940-49AC-8469-0D34288A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80942-2C3F-4795-BAAB-9BFFB4A8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15332B-EBFF-45E2-A14B-0E8039A1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2F1167-38C0-454D-8AAB-2518D07D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18E6F3-6B1B-41EB-BA2C-4C294ABE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2D6FEA-590B-4F3B-9C7D-8DF88596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721DAD-B090-4E74-9CC0-66095492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07931-1DC8-4555-B271-ACF48B84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093F09-BBDA-4DBF-BFD9-0E88BD96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C79481-5766-4F0A-9AB8-CCAD8F43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5BA0D1-CC32-4086-A27C-853C93AE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B130F4-8D7C-4B48-A4D4-E9AEF1E2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7E676-F626-4113-9BC1-58095A8D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8F4D75-CFDF-4A86-BCE9-4FA9ECD1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6F35DF-407D-47C0-B759-BBDD8CC7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32567-D715-412A-92EB-47C1979B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4370E7-FCFC-49FA-B0B1-67872C30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E2EB0-35AF-405B-BCAF-E73B3F1F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5AEEC5-1731-41E9-B2CC-BEFFEB7C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1F1BEA-0008-49B4-B6AF-4FEAAAE4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E65AA4-980F-4589-A920-02809B6A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BBD362-FDD4-4DE5-B0A7-D3D31497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EA640C-5570-4121-8BB9-32BFE522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804FC2-4D3D-4798-A74F-F1D35728C6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25A9D8-D724-420A-9450-D849D100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793FD-463D-4583-B853-A5BA288F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DE28B6-6418-4397-AB9F-DC36E36C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54363-A2D6-4D5C-8AB8-7409A4A6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A8BA4-D321-45FD-B2A6-C430DAF6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B7081A-433F-4A04-99F0-333CC699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4E6E2B-0A63-4908-A6FE-BD2F9BB7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0431E9-4163-4FB7-A53B-62CC19C8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023FC-2845-43B9-90F1-C96226FE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FC8774-A084-4028-8C72-DF1838E1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9A1439-163A-48A5-82E0-2A1167F6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F15CC-932E-4328-A203-2A42B907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0F97F2-2D55-4CFA-BBAD-A8838817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D0F088-6F1F-4215-BB7D-93C38937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C4633D-B7D6-4475-BFDD-30404F9F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1502EC-0EB9-47E1-B73F-CAE063B7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9B421-0FD4-4CAD-A2EA-32E2F503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334892-8616-4965-A662-20897F96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CEBF68-3557-421C-AE81-14AD68A1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AEF7FD-6FAF-4E0F-B1EF-224A53FC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2AB807-D732-42C6-BB7E-2CF2D117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90D055-FF49-4245-A55D-616162E7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94DAFB-CF7A-4116-B707-AF5B1295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F71805-4336-44FD-8F1D-A6B83828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E43BED-14B4-4623-91F0-6CF55D1A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41E4AE-9D8D-49A6-94E7-D2460B39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2DD49A-5A17-4726-9BEE-CE6D729A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B30DF4-FEDD-4502-876B-A559DA3D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A526BC-2EF7-429D-8EC0-1A0B7CE1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1FA82-1F4A-4E89-A98C-F27A3F07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91C620-B6BF-48DE-8B31-520CF5A1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D5CDF6-66E6-4589-9916-6037762D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C2B46E-274C-40E2-B095-CF4FC9E1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5C6A5B-D82E-4D0D-993C-4C169B42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7E7306-26E1-4A51-A469-7297E5A4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7AC1D7-3950-47C3-A9D4-4B7B6BBF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74A6FB-3F4F-4118-AC22-F4885F50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E3000-1C6B-4A05-B03A-148DABD5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1945E3-94FF-4836-A9EB-717D0853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69FBEA-46E4-40D6-925D-E9AC28ED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F67097-7F36-4222-9A4A-B7FB5893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CF1B6A-F0C8-46C5-B238-BA00A1D5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B71C5E-8E77-432D-AB2A-846916CD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991AE-2AAC-4168-8FAF-18F1AA99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A8220-A561-4F6B-AFC8-145A387C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AC150B-A4B5-4F7D-A818-0490FAD1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D54CAC-6874-4CF3-A4D0-5481C40A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6A6B52-C692-48A7-8AAF-72865D36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ABD803-A705-476F-B731-337356D9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F43AE9-48DC-40C1-834C-E0B458C1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8E7617-B899-4847-9314-FB808B52BD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FE3C0-9C24-4282-9548-34E697C805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9090D-C3B9-496F-A407-D520367A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9FA8-969B-4348-96BA-7BE38640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7B6AD-D912-41A8-A52A-8EAF03BA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FF4EB-E8EB-4783-9C61-9B077E72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7C8C3-8307-445C-A3BB-F5A092BA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7646D-168F-4396-BEE2-7B538F62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78E67-F53A-4878-A3F6-A67D711B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68133-E553-4DAC-80D3-B5FE8816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7ABB1-2EC4-4612-A56D-FD96C930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86E81-5A35-460E-842E-33FF6DB0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FB392-CDEA-4C44-B786-2C3917D7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EAC8F-20BE-443D-8F72-564EEBCBCB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C7438-1655-4B5A-A5FD-CDB6324561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8340-D83B-4B4E-B533-6ADF1D12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EDDCA-4D92-4D47-87DB-BEB9C573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64823-237E-4F2A-AB56-75471B0A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1D3AE-285B-487B-B196-757731C4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896F82-9562-4768-8FE3-9F6D3084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CA300-48C6-4C94-B956-6E5A4ED9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05B39-404B-4CE6-BBE5-A22956AC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2F4DCB-3C3F-4938-8508-984D113D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21A6AB-30C3-4E32-819A-3AF883C6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5A4E6-3E7E-4437-990B-77888619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C6CB22-91E9-4EE0-93E8-30069838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71C9E-AAA2-4FDB-92D6-7A6CD14B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1FDB8F-47F7-4421-886E-30B644DC46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6DBB07-4C1A-44C1-82AA-1BFD043E8A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875595-10B6-40B9-BED1-350DD495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FDAD5D-1EDC-47C8-B8E2-64B57305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E6CF61-2498-4DD2-9448-8F28D2D5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A3BDE0-A8AB-497F-B9F8-4F9D312C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5B1BCB-B687-42CA-9AE3-BB598CA0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B45C3B-4962-4940-9EFA-17791336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F15B0A-741C-4AA8-97A9-B84DB9D7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CA0272-36A6-43F9-8311-AD8169A3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02B4-49A0-4850-AE90-E2036964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AE4B9D-9FBC-431D-B2E3-3A706F00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0CE161-D2B3-4B98-B711-44B32FF5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3E2867-E69E-4CFA-AF01-2260C8FBF2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E34EB-74D5-4BF0-82C9-97448C59CD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17F32-50A8-4097-8065-5E5CC98B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49017-C7D8-4881-871A-D14F98BB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075F6-031C-481C-926D-5DEC54B5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5B9A2-C8AC-4330-A47F-108903F6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CD35F-C3BA-4228-9605-DB287704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B68B7-296F-4F2D-94CC-685536B4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AAA0-B7EB-45CF-A974-9555D2EB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BDEBD-1153-4CBC-A2DF-3B2C9B21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1A75B-C693-4D36-B0E8-1B43B5B1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02F7F-BC98-4F69-AE1A-C464F243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3E615-F261-4237-B977-3C659EDE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8E14E-E875-4404-8108-70BA6CAB60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16C2C-C439-40B6-8C30-033DC219BF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437E3-13A6-4502-851E-220D4C86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2C9C9-34AC-4C38-9F19-92F65EC4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9D43E-41E4-4DB5-A721-4E805A48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C818A1-DA62-4C01-A0FE-88BF88D5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A19A-B9AC-4192-83FE-30555DD3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A76C6-A778-447D-A024-626F8373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F3A17-0DA6-449D-80FA-D25BA6AF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BE622-0826-44A7-817A-1747EF92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45991-12F7-41B2-85ED-099997BB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8241E-6B74-4D2F-8AC4-70A189B4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94DEE2-C647-422D-AF12-F759D83E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A0D7EE-5B3B-4954-B7C0-B6A2F13007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E6A17A-3846-491A-89E0-B001BACDDC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0A1C01-1C84-4731-91E0-CEE888F8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B686F4-7309-4B52-826A-23B2F1A3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8755-5AA6-4FD8-899B-D9AFD9653F5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D54D-A5D7-433F-8996-9A7A4AE968A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F6BF-CE71-41A2-9C9D-460D27E8DFC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C29C-3BAF-41FE-8344-0EF6C303B29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DDAA-A829-4B04-94E0-6D8001C8B9D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1ADC-1F49-400D-8620-8153B0DD6BD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B3EE-D136-4413-BA5C-BE96D6D32A6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98F0-7E6B-4090-A75C-B59405AA1C8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53CC-9E93-4DD7-9C4D-44C7DE29952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93CB-68B8-48D0-8622-258CA7E1298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96F0-43EA-4A2C-991C-C44329CF286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6D27-EDA5-43D4-A6EF-0C525939C8E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ADFA-046D-4E71-87C7-76EEDFFB371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6BE4-423B-4A35-8DEC-7D8B01FDCB0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4ED8-7E5B-47D6-87F2-EE47EF6A340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BFD9-AAEB-4E89-99AD-115E7B065AB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B8EF-3BF4-4283-A4D1-2ED46D952C9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5DF0-7BBF-4DC4-BAD8-EB0A1679A53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6127-59ED-47FA-A859-34F56C1DD13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350E-B7FE-459F-97CF-694B2DD1FD3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283A-9417-4D15-8B44-34FE7517C4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9493-D19E-41ED-ABBD-E8DFD7B461F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C3EA-1AEF-4703-A81D-889037238FF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661C-5A73-48FB-AC0B-69C103EF1F6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5167080" cy="360"/>
            <a:chOff x="2284560" y="2448000"/>
            <a:chExt cx="516708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5167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516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201456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1496880" y="266688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万 以 内 的 加 法 和 减 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1162080" y="1744560"/>
            <a:ext cx="69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843360" cy="525600"/>
            <a:chOff x="0" y="101520"/>
            <a:chExt cx="3843360" cy="525600"/>
          </a:xfrm>
        </p:grpSpPr>
        <p:pic>
          <p:nvPicPr>
            <p:cNvPr id="999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83600" y="101520"/>
              <a:ext cx="3659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511200" cy="271800"/>
              <a:chOff x="0" y="197280"/>
              <a:chExt cx="511200" cy="271800"/>
            </a:xfrm>
          </p:grpSpPr>
          <p:sp>
            <p:nvSpPr>
              <p:cNvPr id="1001" name="椭圆 8"/>
              <p:cNvSpPr/>
              <p:nvPr/>
            </p:nvSpPr>
            <p:spPr>
              <a:xfrm rot="16200000">
                <a:off x="257400" y="355320"/>
                <a:ext cx="101160" cy="12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88360" y="307080"/>
                <a:ext cx="222840" cy="9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57400" y="225720"/>
                <a:ext cx="101160" cy="12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360" y="209880"/>
                <a:ext cx="222840" cy="9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1120"/>
                <a:ext cx="435600" cy="8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96640"/>
                <a:ext cx="435600" cy="8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1400"/>
                <a:ext cx="435600" cy="8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435600" cy="86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AutoShape 27"/>
          <p:cNvSpPr/>
          <p:nvPr/>
        </p:nvSpPr>
        <p:spPr>
          <a:xfrm>
            <a:off x="3522600" y="1484280"/>
            <a:ext cx="3519720" cy="1389240"/>
          </a:xfrm>
          <a:prstGeom prst="wedgeRoundRectCallout">
            <a:avLst>
              <a:gd name="adj1" fmla="val 56990"/>
              <a:gd name="adj2" fmla="val -439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同学们这学期我们学习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加、减法，关于计算你有什么新的收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图片 10" descr="6)5][}VZ%@FXJ)FA]TI76$O"/>
          <p:cNvPicPr/>
          <p:nvPr/>
        </p:nvPicPr>
        <p:blipFill>
          <a:blip r:embed="rId8"/>
          <a:stretch/>
        </p:blipFill>
        <p:spPr>
          <a:xfrm flipH="1">
            <a:off x="7356600" y="1343160"/>
            <a:ext cx="1357200" cy="1447560"/>
          </a:xfrm>
          <a:prstGeom prst="rect">
            <a:avLst/>
          </a:prstGeom>
          <a:ln w="0">
            <a:noFill/>
          </a:ln>
        </p:spPr>
      </p:pic>
      <p:sp>
        <p:nvSpPr>
          <p:cNvPr id="1011" name="AutoShape 27"/>
          <p:cNvSpPr/>
          <p:nvPr/>
        </p:nvSpPr>
        <p:spPr>
          <a:xfrm>
            <a:off x="2124000" y="3087720"/>
            <a:ext cx="3541680" cy="891000"/>
          </a:xfrm>
          <a:prstGeom prst="wedgeRoundRectCallout">
            <a:avLst>
              <a:gd name="adj1" fmla="val -57162"/>
              <a:gd name="adj2" fmla="val -630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我会计算万以内的加、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法啦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图片 12" descr="]@P`{@U$K{A7A$9804YYMFT"/>
          <p:cNvPicPr/>
          <p:nvPr/>
        </p:nvPicPr>
        <p:blipFill>
          <a:blip r:embed="rId9"/>
          <a:stretch/>
        </p:blipFill>
        <p:spPr>
          <a:xfrm>
            <a:off x="365040" y="2873520"/>
            <a:ext cx="1497240" cy="1901520"/>
          </a:xfrm>
          <a:prstGeom prst="rect">
            <a:avLst/>
          </a:prstGeom>
          <a:ln w="0">
            <a:noFill/>
          </a:ln>
        </p:spPr>
      </p:pic>
      <p:sp>
        <p:nvSpPr>
          <p:cNvPr id="1013" name="AutoShape 27"/>
          <p:cNvSpPr/>
          <p:nvPr/>
        </p:nvSpPr>
        <p:spPr>
          <a:xfrm>
            <a:off x="4708440" y="4746600"/>
            <a:ext cx="2438640" cy="891000"/>
          </a:xfrm>
          <a:prstGeom prst="wedgeRoundRectCallout">
            <a:avLst>
              <a:gd name="adj1" fmla="val 59828"/>
              <a:gd name="adj2" fmla="val 177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验算对我的计算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帮助很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图片 13" descr="AG]4}@PH9UX]GS)L_H5_`K9"/>
          <p:cNvPicPr/>
          <p:nvPr/>
        </p:nvPicPr>
        <p:blipFill>
          <a:blip r:embed="rId10"/>
          <a:stretch/>
        </p:blipFill>
        <p:spPr>
          <a:xfrm flipH="1">
            <a:off x="7651800" y="4576680"/>
            <a:ext cx="76680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组合 2"/>
          <p:cNvGrpSpPr/>
          <p:nvPr/>
        </p:nvGrpSpPr>
        <p:grpSpPr>
          <a:xfrm>
            <a:off x="-11160" y="92160"/>
            <a:ext cx="3822840" cy="525240"/>
            <a:chOff x="-11160" y="92160"/>
            <a:chExt cx="3822840" cy="525240"/>
          </a:xfrm>
        </p:grpSpPr>
        <p:pic>
          <p:nvPicPr>
            <p:cNvPr id="1016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71360" y="92160"/>
              <a:ext cx="3640320" cy="5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7" name="组合 4"/>
            <p:cNvGrpSpPr/>
            <p:nvPr/>
          </p:nvGrpSpPr>
          <p:grpSpPr>
            <a:xfrm>
              <a:off x="-11160" y="187920"/>
              <a:ext cx="508320" cy="271800"/>
              <a:chOff x="-11160" y="187920"/>
              <a:chExt cx="508320" cy="271800"/>
            </a:xfrm>
          </p:grpSpPr>
          <p:sp>
            <p:nvSpPr>
              <p:cNvPr id="1018" name="椭圆 8"/>
              <p:cNvSpPr/>
              <p:nvPr/>
            </p:nvSpPr>
            <p:spPr>
              <a:xfrm rot="16200000">
                <a:off x="245880" y="346320"/>
                <a:ext cx="100800" cy="12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9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74680" y="298080"/>
                <a:ext cx="222480" cy="9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椭圆 29"/>
              <p:cNvSpPr/>
              <p:nvPr/>
            </p:nvSpPr>
            <p:spPr>
              <a:xfrm rot="16200000">
                <a:off x="245880" y="217080"/>
                <a:ext cx="100800" cy="12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4680" y="200520"/>
                <a:ext cx="222480" cy="9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1160" y="312120"/>
                <a:ext cx="432720" cy="8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1160" y="287640"/>
                <a:ext cx="432720" cy="8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11160" y="212040"/>
                <a:ext cx="432720" cy="8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11160" y="187920"/>
                <a:ext cx="432720" cy="8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6" name="AutoShape 27"/>
          <p:cNvSpPr/>
          <p:nvPr/>
        </p:nvSpPr>
        <p:spPr>
          <a:xfrm>
            <a:off x="4410000" y="1700280"/>
            <a:ext cx="2898720" cy="936720"/>
          </a:xfrm>
          <a:prstGeom prst="wedgeRoundRectCallout">
            <a:avLst>
              <a:gd name="adj1" fmla="val 57967"/>
              <a:gd name="adj2" fmla="val -37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计算万以内的加、减法时应注意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27"/>
          <p:cNvSpPr/>
          <p:nvPr/>
        </p:nvSpPr>
        <p:spPr>
          <a:xfrm>
            <a:off x="1906560" y="2997360"/>
            <a:ext cx="4213080" cy="1286280"/>
          </a:xfrm>
          <a:prstGeom prst="wedgeRoundRectCallout">
            <a:avLst>
              <a:gd name="adj1" fmla="val -56703"/>
              <a:gd name="adj2" fmla="val 2039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同数位要对齐；从个位算起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计算加法时哪一位上的数相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满十，要向前一位进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27"/>
          <p:cNvSpPr/>
          <p:nvPr/>
        </p:nvSpPr>
        <p:spPr>
          <a:xfrm>
            <a:off x="4346640" y="4724280"/>
            <a:ext cx="3025800" cy="1286280"/>
          </a:xfrm>
          <a:prstGeom prst="wedgeRoundRectCallout">
            <a:avLst>
              <a:gd name="adj1" fmla="val 57444"/>
              <a:gd name="adj2" fmla="val 520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计算减法时，哪一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的数不够减，要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一位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图片 10" descr="6)5][}VZ%@FXJ)FA]TI76$O"/>
          <p:cNvPicPr/>
          <p:nvPr/>
        </p:nvPicPr>
        <p:blipFill>
          <a:blip r:embed="rId8"/>
          <a:stretch/>
        </p:blipFill>
        <p:spPr>
          <a:xfrm flipH="1">
            <a:off x="7574040" y="1374840"/>
            <a:ext cx="1357200" cy="144756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12" descr="]@P`{@U$K{A7A$9804YYMFT"/>
          <p:cNvPicPr/>
          <p:nvPr/>
        </p:nvPicPr>
        <p:blipFill>
          <a:blip r:embed="rId9"/>
          <a:stretch/>
        </p:blipFill>
        <p:spPr>
          <a:xfrm>
            <a:off x="85680" y="2822400"/>
            <a:ext cx="1496880" cy="190188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13" descr="AG]4}@PH9UX]GS)L_H5_`K9"/>
          <p:cNvPicPr/>
          <p:nvPr/>
        </p:nvPicPr>
        <p:blipFill>
          <a:blip r:embed="rId10"/>
          <a:stretch/>
        </p:blipFill>
        <p:spPr>
          <a:xfrm flipH="1">
            <a:off x="7651800" y="4576680"/>
            <a:ext cx="76680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组合 2"/>
          <p:cNvGrpSpPr/>
          <p:nvPr/>
        </p:nvGrpSpPr>
        <p:grpSpPr>
          <a:xfrm>
            <a:off x="-20520" y="101520"/>
            <a:ext cx="3481200" cy="525600"/>
            <a:chOff x="-20520" y="101520"/>
            <a:chExt cx="3481200" cy="525600"/>
          </a:xfrm>
        </p:grpSpPr>
        <p:pic>
          <p:nvPicPr>
            <p:cNvPr id="1033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42920" y="101520"/>
              <a:ext cx="3317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4" name="组合 4"/>
            <p:cNvGrpSpPr/>
            <p:nvPr/>
          </p:nvGrpSpPr>
          <p:grpSpPr>
            <a:xfrm>
              <a:off x="-20520" y="197280"/>
              <a:ext cx="462240" cy="271800"/>
              <a:chOff x="-20520" y="197280"/>
              <a:chExt cx="462240" cy="271800"/>
            </a:xfrm>
          </p:grpSpPr>
          <p:sp>
            <p:nvSpPr>
              <p:cNvPr id="1035" name="椭圆 8"/>
              <p:cNvSpPr/>
              <p:nvPr/>
            </p:nvSpPr>
            <p:spPr>
              <a:xfrm rot="16200000">
                <a:off x="228600" y="357840"/>
                <a:ext cx="9972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6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000" y="316440"/>
                <a:ext cx="216720" cy="10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7" name="椭圆 29"/>
              <p:cNvSpPr/>
              <p:nvPr/>
            </p:nvSpPr>
            <p:spPr>
              <a:xfrm rot="16200000">
                <a:off x="228600" y="230400"/>
                <a:ext cx="9972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000" y="210960"/>
                <a:ext cx="216720" cy="1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20520" y="331920"/>
                <a:ext cx="387720" cy="9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0520" y="305280"/>
                <a:ext cx="387720" cy="9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20520" y="223560"/>
                <a:ext cx="387720" cy="9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20520" y="197280"/>
                <a:ext cx="38772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3" name="AutoShape 27"/>
          <p:cNvSpPr/>
          <p:nvPr/>
        </p:nvSpPr>
        <p:spPr>
          <a:xfrm>
            <a:off x="1793880" y="1716120"/>
            <a:ext cx="2158920" cy="965160"/>
          </a:xfrm>
          <a:prstGeom prst="wedgeRoundRectCallout">
            <a:avLst>
              <a:gd name="adj1" fmla="val -61324"/>
              <a:gd name="adj2" fmla="val -509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谁能准确计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下面各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38"/>
          <p:cNvSpPr/>
          <p:nvPr/>
        </p:nvSpPr>
        <p:spPr>
          <a:xfrm>
            <a:off x="1382760" y="4535640"/>
            <a:ext cx="388944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27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0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4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Box 6"/>
          <p:cNvSpPr/>
          <p:nvPr/>
        </p:nvSpPr>
        <p:spPr>
          <a:xfrm>
            <a:off x="3135240" y="4535640"/>
            <a:ext cx="194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7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20"/>
          <p:cNvSpPr/>
          <p:nvPr/>
        </p:nvSpPr>
        <p:spPr>
          <a:xfrm>
            <a:off x="3160800" y="5286240"/>
            <a:ext cx="194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68"/>
          <p:cNvGrpSpPr/>
          <p:nvPr/>
        </p:nvGrpSpPr>
        <p:grpSpPr>
          <a:xfrm>
            <a:off x="4950000" y="1704960"/>
            <a:ext cx="2304360" cy="1996920"/>
            <a:chOff x="4950000" y="1704960"/>
            <a:chExt cx="2304360" cy="1996920"/>
          </a:xfrm>
        </p:grpSpPr>
        <p:grpSp>
          <p:nvGrpSpPr>
            <p:cNvPr id="1048" name="Group 67"/>
            <p:cNvGrpSpPr/>
            <p:nvPr/>
          </p:nvGrpSpPr>
          <p:grpSpPr>
            <a:xfrm>
              <a:off x="4950000" y="1704960"/>
              <a:ext cx="2304360" cy="1996920"/>
              <a:chOff x="4950000" y="1704960"/>
              <a:chExt cx="2304360" cy="1996920"/>
            </a:xfrm>
          </p:grpSpPr>
          <p:sp>
            <p:nvSpPr>
              <p:cNvPr id="1049" name="AutoShape 27"/>
              <p:cNvSpPr/>
              <p:nvPr/>
            </p:nvSpPr>
            <p:spPr>
              <a:xfrm>
                <a:off x="4950000" y="1704960"/>
                <a:ext cx="2174400" cy="1996920"/>
              </a:xfrm>
              <a:prstGeom prst="wedgeRoundRectCallout">
                <a:avLst>
                  <a:gd name="adj1" fmla="val 59333"/>
                  <a:gd name="adj2" fmla="val -20115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c1c1c"/>
                    </a:solidFill>
                    <a:latin typeface="楷体_GB2312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c1c1c"/>
                    </a:solidFill>
                    <a:latin typeface="楷体_GB2312"/>
                  </a:rPr>
                  <a:t> 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22"/>
              <p:cNvSpPr/>
              <p:nvPr/>
            </p:nvSpPr>
            <p:spPr>
              <a:xfrm>
                <a:off x="5617080" y="1752840"/>
                <a:ext cx="12002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   0  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23"/>
              <p:cNvSpPr/>
              <p:nvPr/>
            </p:nvSpPr>
            <p:spPr>
              <a:xfrm>
                <a:off x="5055840" y="2195640"/>
                <a:ext cx="21985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－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5   4  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直接连接符 47"/>
            <p:cNvSpPr/>
            <p:nvPr/>
          </p:nvSpPr>
          <p:spPr>
            <a:xfrm>
              <a:off x="5079600" y="2730600"/>
              <a:ext cx="17953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TextBox 25"/>
          <p:cNvSpPr/>
          <p:nvPr/>
        </p:nvSpPr>
        <p:spPr>
          <a:xfrm>
            <a:off x="6477120" y="2689200"/>
            <a:ext cx="365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27"/>
          <p:cNvSpPr/>
          <p:nvPr/>
        </p:nvSpPr>
        <p:spPr>
          <a:xfrm>
            <a:off x="6048360" y="2689200"/>
            <a:ext cx="361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28"/>
          <p:cNvSpPr/>
          <p:nvPr/>
        </p:nvSpPr>
        <p:spPr>
          <a:xfrm>
            <a:off x="5616720" y="2689200"/>
            <a:ext cx="365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26"/>
          <p:cNvSpPr/>
          <p:nvPr/>
        </p:nvSpPr>
        <p:spPr>
          <a:xfrm>
            <a:off x="6022800" y="1440000"/>
            <a:ext cx="346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30"/>
          <p:cNvSpPr/>
          <p:nvPr/>
        </p:nvSpPr>
        <p:spPr>
          <a:xfrm>
            <a:off x="5591160" y="1440000"/>
            <a:ext cx="345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Group 71"/>
          <p:cNvGrpSpPr/>
          <p:nvPr/>
        </p:nvGrpSpPr>
        <p:grpSpPr>
          <a:xfrm>
            <a:off x="5057640" y="4184640"/>
            <a:ext cx="2197080" cy="1996920"/>
            <a:chOff x="5057640" y="4184640"/>
            <a:chExt cx="2197080" cy="1996920"/>
          </a:xfrm>
        </p:grpSpPr>
        <p:sp>
          <p:nvSpPr>
            <p:cNvPr id="1059" name="AutoShape 27"/>
            <p:cNvSpPr/>
            <p:nvPr/>
          </p:nvSpPr>
          <p:spPr>
            <a:xfrm>
              <a:off x="5057640" y="4184640"/>
              <a:ext cx="2151360" cy="1996920"/>
            </a:xfrm>
            <a:prstGeom prst="wedgeRoundRectCallout">
              <a:avLst>
                <a:gd name="adj1" fmla="val 64083"/>
                <a:gd name="adj2" fmla="val -190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楷体_GB2312"/>
                </a:rPr>
                <a:t>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TextBox 11"/>
            <p:cNvSpPr/>
            <p:nvPr/>
          </p:nvSpPr>
          <p:spPr>
            <a:xfrm>
              <a:off x="5703120" y="4203720"/>
              <a:ext cx="12002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   2  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TextBox 12"/>
            <p:cNvSpPr/>
            <p:nvPr/>
          </p:nvSpPr>
          <p:spPr>
            <a:xfrm>
              <a:off x="5214960" y="4665600"/>
              <a:ext cx="20397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＋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 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直接连接符 47"/>
            <p:cNvSpPr/>
            <p:nvPr/>
          </p:nvSpPr>
          <p:spPr>
            <a:xfrm flipV="1">
              <a:off x="5214960" y="5178600"/>
              <a:ext cx="1755720" cy="14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TextBox 14"/>
          <p:cNvSpPr/>
          <p:nvPr/>
        </p:nvSpPr>
        <p:spPr>
          <a:xfrm>
            <a:off x="6550200" y="5084640"/>
            <a:ext cx="365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15"/>
          <p:cNvSpPr/>
          <p:nvPr/>
        </p:nvSpPr>
        <p:spPr>
          <a:xfrm>
            <a:off x="6130800" y="5084640"/>
            <a:ext cx="363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17"/>
          <p:cNvSpPr/>
          <p:nvPr/>
        </p:nvSpPr>
        <p:spPr>
          <a:xfrm>
            <a:off x="5735520" y="5084640"/>
            <a:ext cx="363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32"/>
          <p:cNvSpPr/>
          <p:nvPr/>
        </p:nvSpPr>
        <p:spPr>
          <a:xfrm>
            <a:off x="6021360" y="4818240"/>
            <a:ext cx="2934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33"/>
          <p:cNvSpPr/>
          <p:nvPr/>
        </p:nvSpPr>
        <p:spPr>
          <a:xfrm>
            <a:off x="5570640" y="4818240"/>
            <a:ext cx="2934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图片 45" descr="]@P`{@U$K{A7A$9804YYMFT"/>
          <p:cNvPicPr/>
          <p:nvPr/>
        </p:nvPicPr>
        <p:blipFill>
          <a:blip r:embed="rId8"/>
          <a:stretch/>
        </p:blipFill>
        <p:spPr>
          <a:xfrm>
            <a:off x="0" y="2081160"/>
            <a:ext cx="1496880" cy="190188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46" descr="6)5][}VZ%@FXJ)FA]TI76$O"/>
          <p:cNvPicPr/>
          <p:nvPr/>
        </p:nvPicPr>
        <p:blipFill>
          <a:blip r:embed="rId9"/>
          <a:stretch/>
        </p:blipFill>
        <p:spPr>
          <a:xfrm flipH="1">
            <a:off x="7481880" y="1787400"/>
            <a:ext cx="1357200" cy="144648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47" descr="AG]4}@PH9UX]GS)L_H5_`K9"/>
          <p:cNvPicPr/>
          <p:nvPr/>
        </p:nvPicPr>
        <p:blipFill>
          <a:blip r:embed="rId10"/>
          <a:stretch/>
        </p:blipFill>
        <p:spPr>
          <a:xfrm flipH="1">
            <a:off x="7651800" y="4576680"/>
            <a:ext cx="766800" cy="14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组合 2"/>
          <p:cNvGrpSpPr/>
          <p:nvPr/>
        </p:nvGrpSpPr>
        <p:grpSpPr>
          <a:xfrm>
            <a:off x="0" y="101520"/>
            <a:ext cx="3430440" cy="525600"/>
            <a:chOff x="0" y="101520"/>
            <a:chExt cx="3430440" cy="525600"/>
          </a:xfrm>
        </p:grpSpPr>
        <p:pic>
          <p:nvPicPr>
            <p:cNvPr id="1072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60920" y="101520"/>
              <a:ext cx="32695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3" name="组合 4"/>
            <p:cNvGrpSpPr/>
            <p:nvPr/>
          </p:nvGrpSpPr>
          <p:grpSpPr>
            <a:xfrm>
              <a:off x="0" y="202680"/>
              <a:ext cx="455400" cy="270000"/>
              <a:chOff x="0" y="202680"/>
              <a:chExt cx="455400" cy="270000"/>
            </a:xfrm>
          </p:grpSpPr>
          <p:sp>
            <p:nvSpPr>
              <p:cNvPr id="1074" name="椭圆 8"/>
              <p:cNvSpPr/>
              <p:nvPr/>
            </p:nvSpPr>
            <p:spPr>
              <a:xfrm rot="16200000">
                <a:off x="248040" y="362160"/>
                <a:ext cx="98640" cy="12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5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39760" y="322560"/>
                <a:ext cx="215640" cy="10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6" name="椭圆 29"/>
              <p:cNvSpPr/>
              <p:nvPr/>
            </p:nvSpPr>
            <p:spPr>
              <a:xfrm rot="16200000">
                <a:off x="248040" y="236160"/>
                <a:ext cx="98640" cy="12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39760" y="216360"/>
                <a:ext cx="215640" cy="10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680"/>
                <a:ext cx="381240" cy="9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040"/>
                <a:ext cx="381240" cy="9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960"/>
                <a:ext cx="381240" cy="9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02680"/>
                <a:ext cx="381240" cy="9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2" name="AutoShape 27"/>
          <p:cNvSpPr/>
          <p:nvPr/>
        </p:nvSpPr>
        <p:spPr>
          <a:xfrm>
            <a:off x="2092320" y="1666800"/>
            <a:ext cx="4530600" cy="962280"/>
          </a:xfrm>
          <a:prstGeom prst="wedgeRoundRectCallout">
            <a:avLst>
              <a:gd name="adj1" fmla="val -55009"/>
              <a:gd name="adj2" fmla="val 1963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用加、减法可以解决生活中的许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问题。你能举个例子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AutoShape 27"/>
          <p:cNvSpPr/>
          <p:nvPr/>
        </p:nvSpPr>
        <p:spPr>
          <a:xfrm>
            <a:off x="2668680" y="3247920"/>
            <a:ext cx="4465440" cy="891000"/>
          </a:xfrm>
          <a:prstGeom prst="wedgeRoundRectCallout">
            <a:avLst>
              <a:gd name="adj1" fmla="val 54615"/>
              <a:gd name="adj2" fmla="val 1413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四年级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9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人，三年级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4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人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两个年级一共有多少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27"/>
          <p:cNvSpPr/>
          <p:nvPr/>
        </p:nvSpPr>
        <p:spPr>
          <a:xfrm>
            <a:off x="3530520" y="4913280"/>
            <a:ext cx="2743200" cy="891000"/>
          </a:xfrm>
          <a:prstGeom prst="wedgeRoundRectCallout">
            <a:avLst>
              <a:gd name="adj1" fmla="val -58550"/>
              <a:gd name="adj2" fmla="val -3574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我来想一个用减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解决的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图片 45" descr="]@P`{@U$K{A7A$9804YYMFT"/>
          <p:cNvPicPr/>
          <p:nvPr/>
        </p:nvPicPr>
        <p:blipFill>
          <a:blip r:embed="rId8"/>
          <a:stretch/>
        </p:blipFill>
        <p:spPr>
          <a:xfrm>
            <a:off x="179280" y="1514520"/>
            <a:ext cx="1497240" cy="190188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46" descr="6)5][}VZ%@FXJ)FA]TI76$O"/>
          <p:cNvPicPr/>
          <p:nvPr/>
        </p:nvPicPr>
        <p:blipFill>
          <a:blip r:embed="rId9"/>
          <a:stretch/>
        </p:blipFill>
        <p:spPr>
          <a:xfrm flipH="1">
            <a:off x="7418520" y="2973240"/>
            <a:ext cx="1357200" cy="1446480"/>
          </a:xfrm>
          <a:prstGeom prst="rect">
            <a:avLst/>
          </a:prstGeom>
          <a:ln w="0">
            <a:noFill/>
          </a:ln>
        </p:spPr>
      </p:pic>
      <p:pic>
        <p:nvPicPr>
          <p:cNvPr id="1087" name="图片 47" descr="AG]4}@PH9UX]GS)L_H5_`K9"/>
          <p:cNvPicPr/>
          <p:nvPr/>
        </p:nvPicPr>
        <p:blipFill>
          <a:blip r:embed="rId10"/>
          <a:stretch/>
        </p:blipFill>
        <p:spPr>
          <a:xfrm>
            <a:off x="2192400" y="4514760"/>
            <a:ext cx="76680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矩形 2"/>
          <p:cNvSpPr/>
          <p:nvPr/>
        </p:nvSpPr>
        <p:spPr>
          <a:xfrm>
            <a:off x="285840" y="1343160"/>
            <a:ext cx="83581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75+162=        310-207=         259+14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Box 3"/>
          <p:cNvSpPr/>
          <p:nvPr/>
        </p:nvSpPr>
        <p:spPr>
          <a:xfrm>
            <a:off x="1643040" y="202392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3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4"/>
          <p:cNvSpPr/>
          <p:nvPr/>
        </p:nvSpPr>
        <p:spPr>
          <a:xfrm>
            <a:off x="4143240" y="202392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Box 5"/>
          <p:cNvSpPr/>
          <p:nvPr/>
        </p:nvSpPr>
        <p:spPr>
          <a:xfrm>
            <a:off x="6858000" y="200016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矩形 6"/>
          <p:cNvSpPr/>
          <p:nvPr/>
        </p:nvSpPr>
        <p:spPr>
          <a:xfrm>
            <a:off x="357120" y="3281400"/>
            <a:ext cx="750096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85-423=        325+464=         806-77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Box 7"/>
          <p:cNvSpPr/>
          <p:nvPr/>
        </p:nvSpPr>
        <p:spPr>
          <a:xfrm>
            <a:off x="1643040" y="397512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6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8"/>
          <p:cNvSpPr/>
          <p:nvPr/>
        </p:nvSpPr>
        <p:spPr>
          <a:xfrm>
            <a:off x="4143240" y="397512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8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9"/>
          <p:cNvSpPr/>
          <p:nvPr/>
        </p:nvSpPr>
        <p:spPr>
          <a:xfrm>
            <a:off x="6858000" y="39528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10"/>
          <p:cNvSpPr/>
          <p:nvPr/>
        </p:nvSpPr>
        <p:spPr>
          <a:xfrm>
            <a:off x="428760" y="1071720"/>
            <a:ext cx="8556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列竖式计算下面各题，并说一说计算加、减法时应注意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组合 11"/>
          <p:cNvGrpSpPr/>
          <p:nvPr/>
        </p:nvGrpSpPr>
        <p:grpSpPr>
          <a:xfrm>
            <a:off x="428760" y="2428920"/>
            <a:ext cx="1571400" cy="1071360"/>
            <a:chOff x="428760" y="2428920"/>
            <a:chExt cx="1571400" cy="1071360"/>
          </a:xfrm>
        </p:grpSpPr>
        <p:sp>
          <p:nvSpPr>
            <p:cNvPr id="1098" name="TextBox 12"/>
            <p:cNvSpPr/>
            <p:nvPr/>
          </p:nvSpPr>
          <p:spPr>
            <a:xfrm>
              <a:off x="428760" y="2428920"/>
              <a:ext cx="157140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7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+1 6 2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3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"/>
            <p:cNvGrpSpPr/>
            <p:nvPr/>
          </p:nvGrpSpPr>
          <p:grpSpPr>
            <a:xfrm>
              <a:off x="620640" y="3285720"/>
              <a:ext cx="1093680" cy="360"/>
              <a:chOff x="620640" y="3285720"/>
              <a:chExt cx="1093680" cy="360"/>
            </a:xfrm>
          </p:grpSpPr>
          <p:sp>
            <p:nvSpPr>
              <p:cNvPr id="1100" name="直接连接符 13"/>
              <p:cNvSpPr/>
              <p:nvPr/>
            </p:nvSpPr>
            <p:spPr>
              <a:xfrm>
                <a:off x="621000" y="3286080"/>
                <a:ext cx="10933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 txBox="1"/>
              <p:nvPr/>
            </p:nvSpPr>
            <p:spPr>
              <a:xfrm rot="10800000">
                <a:off x="620640" y="3285720"/>
                <a:ext cx="109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2" name="组合 15"/>
          <p:cNvGrpSpPr/>
          <p:nvPr/>
        </p:nvGrpSpPr>
        <p:grpSpPr>
          <a:xfrm>
            <a:off x="3071880" y="2428920"/>
            <a:ext cx="1571400" cy="1071360"/>
            <a:chOff x="3071880" y="2428920"/>
            <a:chExt cx="1571400" cy="1071360"/>
          </a:xfrm>
        </p:grpSpPr>
        <p:sp>
          <p:nvSpPr>
            <p:cNvPr id="1103" name="TextBox 16"/>
            <p:cNvSpPr/>
            <p:nvPr/>
          </p:nvSpPr>
          <p:spPr>
            <a:xfrm>
              <a:off x="3071880" y="2428920"/>
              <a:ext cx="157140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2 0 7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0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3263760" y="3285720"/>
              <a:ext cx="1093680" cy="360"/>
              <a:chOff x="3263760" y="3285720"/>
              <a:chExt cx="1093680" cy="360"/>
            </a:xfrm>
          </p:grpSpPr>
          <p:sp>
            <p:nvSpPr>
              <p:cNvPr id="1105" name="直接连接符 17"/>
              <p:cNvSpPr/>
              <p:nvPr/>
            </p:nvSpPr>
            <p:spPr>
              <a:xfrm>
                <a:off x="3264120" y="3286080"/>
                <a:ext cx="10933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 txBox="1"/>
              <p:nvPr/>
            </p:nvSpPr>
            <p:spPr>
              <a:xfrm rot="10800000">
                <a:off x="3263760" y="3285720"/>
                <a:ext cx="109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7" name="组合 18"/>
          <p:cNvGrpSpPr/>
          <p:nvPr/>
        </p:nvGrpSpPr>
        <p:grpSpPr>
          <a:xfrm>
            <a:off x="5715000" y="2428920"/>
            <a:ext cx="1571760" cy="1071360"/>
            <a:chOff x="5715000" y="2428920"/>
            <a:chExt cx="1571760" cy="1071360"/>
          </a:xfrm>
        </p:grpSpPr>
        <p:sp>
          <p:nvSpPr>
            <p:cNvPr id="1108" name="TextBox 19"/>
            <p:cNvSpPr/>
            <p:nvPr/>
          </p:nvSpPr>
          <p:spPr>
            <a:xfrm>
              <a:off x="5715000" y="2428920"/>
              <a:ext cx="15717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+1 4 8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4 0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"/>
            <p:cNvGrpSpPr/>
            <p:nvPr/>
          </p:nvGrpSpPr>
          <p:grpSpPr>
            <a:xfrm>
              <a:off x="5907240" y="3285720"/>
              <a:ext cx="1093680" cy="360"/>
              <a:chOff x="5907240" y="3285720"/>
              <a:chExt cx="1093680" cy="360"/>
            </a:xfrm>
          </p:grpSpPr>
          <p:sp>
            <p:nvSpPr>
              <p:cNvPr id="1110" name="直接连接符 20"/>
              <p:cNvSpPr/>
              <p:nvPr/>
            </p:nvSpPr>
            <p:spPr>
              <a:xfrm>
                <a:off x="5907600" y="3286080"/>
                <a:ext cx="10933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 txBox="1"/>
              <p:nvPr/>
            </p:nvSpPr>
            <p:spPr>
              <a:xfrm rot="10800000">
                <a:off x="5907240" y="3285720"/>
                <a:ext cx="109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2" name="组合 21"/>
          <p:cNvGrpSpPr/>
          <p:nvPr/>
        </p:nvGrpSpPr>
        <p:grpSpPr>
          <a:xfrm>
            <a:off x="428760" y="4357800"/>
            <a:ext cx="1571400" cy="1071360"/>
            <a:chOff x="428760" y="4357800"/>
            <a:chExt cx="1571400" cy="1071360"/>
          </a:xfrm>
        </p:grpSpPr>
        <p:sp>
          <p:nvSpPr>
            <p:cNvPr id="1113" name="TextBox 22"/>
            <p:cNvSpPr/>
            <p:nvPr/>
          </p:nvSpPr>
          <p:spPr>
            <a:xfrm>
              <a:off x="428760" y="4357800"/>
              <a:ext cx="157140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9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8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4 2 3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6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"/>
            <p:cNvGrpSpPr/>
            <p:nvPr/>
          </p:nvGrpSpPr>
          <p:grpSpPr>
            <a:xfrm>
              <a:off x="620640" y="5214600"/>
              <a:ext cx="1093680" cy="360"/>
              <a:chOff x="620640" y="5214600"/>
              <a:chExt cx="1093680" cy="360"/>
            </a:xfrm>
          </p:grpSpPr>
          <p:sp>
            <p:nvSpPr>
              <p:cNvPr id="1115" name="直接连接符 23"/>
              <p:cNvSpPr/>
              <p:nvPr/>
            </p:nvSpPr>
            <p:spPr>
              <a:xfrm>
                <a:off x="621000" y="5214960"/>
                <a:ext cx="10933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 txBox="1"/>
              <p:nvPr/>
            </p:nvSpPr>
            <p:spPr>
              <a:xfrm rot="10800000">
                <a:off x="620640" y="5214600"/>
                <a:ext cx="109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7" name="组合 24"/>
          <p:cNvGrpSpPr/>
          <p:nvPr/>
        </p:nvGrpSpPr>
        <p:grpSpPr>
          <a:xfrm>
            <a:off x="3071880" y="4357800"/>
            <a:ext cx="1571400" cy="1071360"/>
            <a:chOff x="3071880" y="4357800"/>
            <a:chExt cx="1571400" cy="1071360"/>
          </a:xfrm>
        </p:grpSpPr>
        <p:sp>
          <p:nvSpPr>
            <p:cNvPr id="1118" name="TextBox 25"/>
            <p:cNvSpPr/>
            <p:nvPr/>
          </p:nvSpPr>
          <p:spPr>
            <a:xfrm>
              <a:off x="3071880" y="4357800"/>
              <a:ext cx="157140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+4 6 4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7 8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3263760" y="5214600"/>
              <a:ext cx="1093680" cy="360"/>
              <a:chOff x="3263760" y="5214600"/>
              <a:chExt cx="1093680" cy="360"/>
            </a:xfrm>
          </p:grpSpPr>
          <p:sp>
            <p:nvSpPr>
              <p:cNvPr id="1120" name="直接连接符 26"/>
              <p:cNvSpPr/>
              <p:nvPr/>
            </p:nvSpPr>
            <p:spPr>
              <a:xfrm>
                <a:off x="3264120" y="5214960"/>
                <a:ext cx="10933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 txBox="1"/>
              <p:nvPr/>
            </p:nvSpPr>
            <p:spPr>
              <a:xfrm rot="10800000">
                <a:off x="3263760" y="5214600"/>
                <a:ext cx="109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27"/>
          <p:cNvGrpSpPr/>
          <p:nvPr/>
        </p:nvGrpSpPr>
        <p:grpSpPr>
          <a:xfrm>
            <a:off x="5715000" y="4357800"/>
            <a:ext cx="1571760" cy="1071360"/>
            <a:chOff x="5715000" y="4357800"/>
            <a:chExt cx="1571760" cy="1071360"/>
          </a:xfrm>
        </p:grpSpPr>
        <p:sp>
          <p:nvSpPr>
            <p:cNvPr id="1123" name="TextBox 28"/>
            <p:cNvSpPr/>
            <p:nvPr/>
          </p:nvSpPr>
          <p:spPr>
            <a:xfrm>
              <a:off x="5715000" y="4357800"/>
              <a:ext cx="15717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8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0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-7 7 4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4" name=""/>
            <p:cNvGrpSpPr/>
            <p:nvPr/>
          </p:nvGrpSpPr>
          <p:grpSpPr>
            <a:xfrm>
              <a:off x="5907240" y="5214600"/>
              <a:ext cx="1093680" cy="360"/>
              <a:chOff x="5907240" y="5214600"/>
              <a:chExt cx="1093680" cy="360"/>
            </a:xfrm>
          </p:grpSpPr>
          <p:sp>
            <p:nvSpPr>
              <p:cNvPr id="1125" name="直接连接符 29"/>
              <p:cNvSpPr/>
              <p:nvPr/>
            </p:nvSpPr>
            <p:spPr>
              <a:xfrm>
                <a:off x="5907600" y="5214960"/>
                <a:ext cx="10933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 txBox="1"/>
              <p:nvPr/>
            </p:nvSpPr>
            <p:spPr>
              <a:xfrm rot="10800000">
                <a:off x="5907240" y="5214600"/>
                <a:ext cx="109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7" name="组合 2"/>
          <p:cNvGrpSpPr/>
          <p:nvPr/>
        </p:nvGrpSpPr>
        <p:grpSpPr>
          <a:xfrm>
            <a:off x="0" y="101520"/>
            <a:ext cx="3502080" cy="525600"/>
            <a:chOff x="0" y="101520"/>
            <a:chExt cx="3502080" cy="525600"/>
          </a:xfrm>
        </p:grpSpPr>
        <p:pic>
          <p:nvPicPr>
            <p:cNvPr id="1128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64880" y="101520"/>
              <a:ext cx="3337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9" name="组合 4"/>
            <p:cNvGrpSpPr/>
            <p:nvPr/>
          </p:nvGrpSpPr>
          <p:grpSpPr>
            <a:xfrm>
              <a:off x="0" y="202680"/>
              <a:ext cx="465120" cy="269640"/>
              <a:chOff x="0" y="202680"/>
              <a:chExt cx="465120" cy="269640"/>
            </a:xfrm>
          </p:grpSpPr>
          <p:sp>
            <p:nvSpPr>
              <p:cNvPr id="1130" name="椭圆 8"/>
              <p:cNvSpPr/>
              <p:nvPr/>
            </p:nvSpPr>
            <p:spPr>
              <a:xfrm rot="16200000">
                <a:off x="250200" y="361440"/>
                <a:ext cx="990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1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48040" y="320400"/>
                <a:ext cx="217080" cy="1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椭圆 29"/>
              <p:cNvSpPr/>
              <p:nvPr/>
            </p:nvSpPr>
            <p:spPr>
              <a:xfrm rot="16200000">
                <a:off x="250200" y="235080"/>
                <a:ext cx="990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040" y="216000"/>
                <a:ext cx="217080" cy="10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5520"/>
                <a:ext cx="390240" cy="9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240"/>
                <a:ext cx="390240" cy="9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600"/>
                <a:ext cx="390240" cy="9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02680"/>
                <a:ext cx="390240" cy="92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8" name="组合 2"/>
          <p:cNvGrpSpPr/>
          <p:nvPr/>
        </p:nvGrpSpPr>
        <p:grpSpPr>
          <a:xfrm>
            <a:off x="0" y="101520"/>
            <a:ext cx="3286080" cy="525600"/>
            <a:chOff x="0" y="101520"/>
            <a:chExt cx="3286080" cy="525600"/>
          </a:xfrm>
        </p:grpSpPr>
        <p:pic>
          <p:nvPicPr>
            <p:cNvPr id="113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2640" y="101520"/>
              <a:ext cx="31334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0" name="组合 4"/>
            <p:cNvGrpSpPr/>
            <p:nvPr/>
          </p:nvGrpSpPr>
          <p:grpSpPr>
            <a:xfrm>
              <a:off x="0" y="197280"/>
              <a:ext cx="435600" cy="272160"/>
              <a:chOff x="0" y="197280"/>
              <a:chExt cx="435600" cy="272160"/>
            </a:xfrm>
          </p:grpSpPr>
          <p:sp>
            <p:nvSpPr>
              <p:cNvPr id="1141" name="椭圆 1"/>
              <p:cNvSpPr/>
              <p:nvPr/>
            </p:nvSpPr>
            <p:spPr>
              <a:xfrm rot="16200000">
                <a:off x="244080" y="360000"/>
                <a:ext cx="9864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2840" y="322560"/>
                <a:ext cx="212760" cy="1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椭圆 29"/>
              <p:cNvSpPr/>
              <p:nvPr/>
            </p:nvSpPr>
            <p:spPr>
              <a:xfrm rot="16200000">
                <a:off x="244080" y="233640"/>
                <a:ext cx="9864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2840" y="211680"/>
                <a:ext cx="2127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8400"/>
                <a:ext cx="361800" cy="9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0680"/>
                <a:ext cx="361800" cy="9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61800" cy="9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1800" cy="9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149" name=""/>
          <p:cNvGraphicFramePr/>
          <p:nvPr/>
        </p:nvGraphicFramePr>
        <p:xfrm>
          <a:off x="446040" y="892080"/>
          <a:ext cx="6865920" cy="3200400"/>
        </p:xfrm>
        <a:graphic>
          <a:graphicData uri="http://schemas.openxmlformats.org/drawingml/2006/table">
            <a:tbl>
              <a:tblPr/>
              <a:tblGrid>
                <a:gridCol w="4079880"/>
                <a:gridCol w="2786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航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里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千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北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北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成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北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广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北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台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北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北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乌鲁木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0" name="TextBox 6"/>
          <p:cNvSpPr/>
          <p:nvPr/>
        </p:nvSpPr>
        <p:spPr>
          <a:xfrm>
            <a:off x="-142920" y="3643200"/>
            <a:ext cx="5286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在（   ）里填上合适的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Picture 2" descr="D:\我的文档-桌面-收藏夹\桌面\1.jpg"/>
          <p:cNvPicPr/>
          <p:nvPr/>
        </p:nvPicPr>
        <p:blipFill>
          <a:blip r:embed="rId8"/>
          <a:stretch/>
        </p:blipFill>
        <p:spPr>
          <a:xfrm>
            <a:off x="6357960" y="4357800"/>
            <a:ext cx="2500200" cy="12510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3" descr="D:\我的文档-桌面-收藏夹\桌面\2.jpg"/>
          <p:cNvPicPr/>
          <p:nvPr/>
        </p:nvPicPr>
        <p:blipFill>
          <a:blip r:embed="rId9"/>
          <a:stretch/>
        </p:blipFill>
        <p:spPr>
          <a:xfrm>
            <a:off x="3643200" y="4286160"/>
            <a:ext cx="1938600" cy="14544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4" descr="D:\我的文档-桌面-收藏夹\桌面\3.jpg"/>
          <p:cNvPicPr/>
          <p:nvPr/>
        </p:nvPicPr>
        <p:blipFill>
          <a:blip r:embed="rId10"/>
          <a:stretch/>
        </p:blipFill>
        <p:spPr>
          <a:xfrm>
            <a:off x="806400" y="4286160"/>
            <a:ext cx="1857600" cy="136224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10"/>
          <p:cNvSpPr/>
          <p:nvPr/>
        </p:nvSpPr>
        <p:spPr>
          <a:xfrm>
            <a:off x="142920" y="5715000"/>
            <a:ext cx="3429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飞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75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11"/>
          <p:cNvSpPr/>
          <p:nvPr/>
        </p:nvSpPr>
        <p:spPr>
          <a:xfrm>
            <a:off x="6286680" y="5715000"/>
            <a:ext cx="3000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机身全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12"/>
          <p:cNvSpPr/>
          <p:nvPr/>
        </p:nvSpPr>
        <p:spPr>
          <a:xfrm>
            <a:off x="3286080" y="5715000"/>
            <a:ext cx="2928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载质量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13"/>
          <p:cNvSpPr/>
          <p:nvPr/>
        </p:nvSpPr>
        <p:spPr>
          <a:xfrm>
            <a:off x="2286000" y="5870520"/>
            <a:ext cx="1214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宋体"/>
                <a:ea typeface="宋体"/>
              </a:rPr>
              <a:t>千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Box 14"/>
          <p:cNvSpPr/>
          <p:nvPr/>
        </p:nvSpPr>
        <p:spPr>
          <a:xfrm>
            <a:off x="5214960" y="5870520"/>
            <a:ext cx="1214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宋体"/>
                <a:ea typeface="宋体"/>
              </a:rPr>
              <a:t>吨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15"/>
          <p:cNvSpPr/>
          <p:nvPr/>
        </p:nvSpPr>
        <p:spPr>
          <a:xfrm>
            <a:off x="8286840" y="5870520"/>
            <a:ext cx="857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宋体"/>
                <a:ea typeface="宋体"/>
              </a:rPr>
              <a:t>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Box 3"/>
          <p:cNvSpPr/>
          <p:nvPr/>
        </p:nvSpPr>
        <p:spPr>
          <a:xfrm>
            <a:off x="0" y="641520"/>
            <a:ext cx="9247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架飞机先从北京飞到广州，再飞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9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米到三亚，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飞行了多少千米？比从北京直接飞到三亚多飞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4"/>
          <p:cNvSpPr/>
          <p:nvPr/>
        </p:nvSpPr>
        <p:spPr>
          <a:xfrm>
            <a:off x="1785960" y="3355920"/>
            <a:ext cx="38577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907+690=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千米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-2541=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千米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8"/>
          <p:cNvSpPr/>
          <p:nvPr/>
        </p:nvSpPr>
        <p:spPr>
          <a:xfrm>
            <a:off x="3357720" y="3141720"/>
            <a:ext cx="107136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10"/>
          <p:cNvSpPr/>
          <p:nvPr/>
        </p:nvSpPr>
        <p:spPr>
          <a:xfrm>
            <a:off x="3357720" y="4284720"/>
            <a:ext cx="107136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矩形 11"/>
          <p:cNvSpPr/>
          <p:nvPr/>
        </p:nvSpPr>
        <p:spPr>
          <a:xfrm>
            <a:off x="1214280" y="4284720"/>
            <a:ext cx="107172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12"/>
          <p:cNvSpPr/>
          <p:nvPr/>
        </p:nvSpPr>
        <p:spPr>
          <a:xfrm>
            <a:off x="3459960" y="323676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59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矩形 13"/>
          <p:cNvSpPr/>
          <p:nvPr/>
        </p:nvSpPr>
        <p:spPr>
          <a:xfrm>
            <a:off x="1316880" y="435600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59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矩形 14"/>
          <p:cNvSpPr/>
          <p:nvPr/>
        </p:nvSpPr>
        <p:spPr>
          <a:xfrm>
            <a:off x="3673080" y="4356000"/>
            <a:ext cx="543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Box 18"/>
          <p:cNvSpPr/>
          <p:nvPr/>
        </p:nvSpPr>
        <p:spPr>
          <a:xfrm>
            <a:off x="785880" y="5499000"/>
            <a:ext cx="7929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能提出一个用加法或减法计算的问题并解答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组合 2"/>
          <p:cNvGrpSpPr/>
          <p:nvPr/>
        </p:nvGrpSpPr>
        <p:grpSpPr>
          <a:xfrm>
            <a:off x="0" y="101520"/>
            <a:ext cx="3500280" cy="525600"/>
            <a:chOff x="0" y="101520"/>
            <a:chExt cx="3500280" cy="525600"/>
          </a:xfrm>
        </p:grpSpPr>
        <p:pic>
          <p:nvPicPr>
            <p:cNvPr id="117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64520" y="101520"/>
              <a:ext cx="3335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1" name="组合 4"/>
            <p:cNvGrpSpPr/>
            <p:nvPr/>
          </p:nvGrpSpPr>
          <p:grpSpPr>
            <a:xfrm>
              <a:off x="0" y="202680"/>
              <a:ext cx="464760" cy="269640"/>
              <a:chOff x="0" y="202680"/>
              <a:chExt cx="464760" cy="269640"/>
            </a:xfrm>
          </p:grpSpPr>
          <p:sp>
            <p:nvSpPr>
              <p:cNvPr id="1172" name="椭圆 2"/>
              <p:cNvSpPr/>
              <p:nvPr/>
            </p:nvSpPr>
            <p:spPr>
              <a:xfrm rot="16200000">
                <a:off x="249840" y="361440"/>
                <a:ext cx="990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48040" y="320400"/>
                <a:ext cx="216720" cy="1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4" name="椭圆 29"/>
              <p:cNvSpPr/>
              <p:nvPr/>
            </p:nvSpPr>
            <p:spPr>
              <a:xfrm rot="16200000">
                <a:off x="249840" y="235080"/>
                <a:ext cx="990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040" y="216000"/>
                <a:ext cx="216720" cy="10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5520"/>
                <a:ext cx="389880" cy="9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240"/>
                <a:ext cx="389880" cy="9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600"/>
                <a:ext cx="389880" cy="9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02680"/>
                <a:ext cx="389880" cy="92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80" name="组合 4"/>
          <p:cNvGrpSpPr/>
          <p:nvPr/>
        </p:nvGrpSpPr>
        <p:grpSpPr>
          <a:xfrm>
            <a:off x="4164120" y="1998720"/>
            <a:ext cx="4693680" cy="1046160"/>
            <a:chOff x="4164120" y="1998720"/>
            <a:chExt cx="4693680" cy="1046160"/>
          </a:xfrm>
        </p:grpSpPr>
        <p:sp>
          <p:nvSpPr>
            <p:cNvPr id="1181" name="AutoShape 27"/>
            <p:cNvSpPr/>
            <p:nvPr/>
          </p:nvSpPr>
          <p:spPr>
            <a:xfrm>
              <a:off x="4164120" y="1998720"/>
              <a:ext cx="3428640" cy="929160"/>
            </a:xfrm>
            <a:prstGeom prst="wedgeRoundRectCallout">
              <a:avLst>
                <a:gd name="adj1" fmla="val 61736"/>
                <a:gd name="adj2" fmla="val 33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计算万以内的加、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法要注意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2" name="图片 3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8063640" y="2197080"/>
              <a:ext cx="794160" cy="847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03:17:17Z</dcterms:created>
  <dc:creator/>
  <dc:description/>
  <dc:language>en-US</dc:language>
  <cp:lastModifiedBy>万润仪器贸易公司</cp:lastModifiedBy>
  <dcterms:modified xsi:type="dcterms:W3CDTF">2020-08-21T01:50:38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